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29077"/>
        <c:axId val="26011829"/>
      </c:barChart>
      <c:catAx>
        <c:axId val="5192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11829"/>
        <c:crosses val="autoZero"/>
        <c:auto val="1"/>
        <c:lblAlgn val="ctr"/>
        <c:lblOffset val="100"/>
        <c:noMultiLvlLbl val="0"/>
      </c:catAx>
      <c:valAx>
        <c:axId val="26011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2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907-2F08-4CA7-AE6E-F47F539C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9EC-4762-4A6C-80AB-36BAEF1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0D4-976D-41F1-B04B-12B30C0D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206-7BA5-4C61-B744-12C81BFF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0A1-BFFD-4C18-BCB3-3116870E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C3B-F92B-4D31-A979-436DF0DC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284-3092-4468-813C-0FD45C19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837-751F-4A3B-B2DC-D715589B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FBC-C421-4606-BCF2-E2F17CFA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4B1-25F7-4CB8-A456-4BF8E6D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8CF-1B17-4294-A5A2-509E172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466-0506-4B37-A6CB-2AEB8A9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E96B8-DCCE-4901-A1A4-959F52216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