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30969"/>
        <c:axId val="9562764"/>
      </c:barChart>
      <c:catAx>
        <c:axId val="64830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764"/>
        <c:crosses val="autoZero"/>
        <c:auto val="1"/>
        <c:lblAlgn val="ctr"/>
        <c:lblOffset val="100"/>
        <c:noMultiLvlLbl val="0"/>
      </c:catAx>
      <c:valAx>
        <c:axId val="9562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0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437-2C35-406E-B6BA-5B632156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47F-F926-4872-8E6E-29C0393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56C-71DE-4EB1-ABDD-E186A2D1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F85-762B-4C93-9F6C-BFBFD3E2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EE5-034E-4D95-BFAF-72A9257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79A-9D32-43D7-9A5B-644D010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43F-FD47-4BEF-9605-2EFB7F5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F48-6BE9-4C25-8A85-6C77E42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7D2-A478-44E4-A4A1-7DC5084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A5D-3203-4D5D-8E3F-6715E8D6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959-CF79-4CCA-8F71-EF49BC3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0BC-5C91-4E40-8BC3-E27B698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4C8F6-44C7-4E36-8300-9DDA7F5279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