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9831807"/>
        <c:axId val="20474903"/>
      </c:barChart>
      <c:catAx>
        <c:axId val="3983180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474903"/>
        <c:crosses val="autoZero"/>
        <c:auto val="1"/>
        <c:lblAlgn val="ctr"/>
        <c:lblOffset val="100"/>
        <c:noMultiLvlLbl val="0"/>
      </c:catAx>
      <c:valAx>
        <c:axId val="204749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983180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1394-0E76-4976-BC20-F57A6762DF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B8F58-1B24-4960-9471-A1638ADB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AE049-C03B-4C72-984F-36355CC99F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51EA-9801-4F8E-BA59-A9AA826C9A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B5D0C-901C-4A29-99E0-2AE4F5703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44EA-952E-4094-953E-43B3D66CE6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BA94-9B2B-4261-9952-9562F0275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89AF5-0B8E-40C0-82C5-10BC6DA1F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BF559-9C51-45F8-B1E4-3320F743F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C196A-93FE-4A51-831B-DD9058F73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35FDE-D905-4B69-82D2-A4191EC8D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69EF-C1DD-42F9-BEB5-8C9E5417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60CBF1-02E1-4481-AFF3-A41314802B1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