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159686"/>
        <c:axId val="87236836"/>
      </c:barChart>
      <c:catAx>
        <c:axId val="72159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36836"/>
        <c:crosses val="autoZero"/>
        <c:auto val="1"/>
        <c:lblAlgn val="ctr"/>
        <c:lblOffset val="100"/>
        <c:noMultiLvlLbl val="0"/>
      </c:catAx>
      <c:valAx>
        <c:axId val="872368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59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7F07-5CCE-4D7E-8E5F-32E8C7DA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C2D0-5332-407C-88F1-EF6606F5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DF9-1A94-4509-8DE5-01C082EF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2E4-4E50-4C91-A1C2-589E2E79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931-253A-49D9-9E13-CA01D52F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CD2-F18F-41B6-BDB0-8DAF479C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8E5-7E78-4453-A0E5-FF8B5CD0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556-8CD9-44A8-BF39-5F78BB11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BBF-004A-4A09-9043-6189F193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99A-9ABB-4A03-BF42-9D43D4E9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CB3-9EBF-417F-B426-1CF96788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C28-D658-4438-9B97-95A32A8E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7C820-C0F8-46BD-8054-9661BD462E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