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3227"/>
        <c:axId val="35625048"/>
      </c:barChart>
      <c:catAx>
        <c:axId val="18113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5048"/>
        <c:crosses val="autoZero"/>
        <c:auto val="1"/>
        <c:lblAlgn val="ctr"/>
        <c:lblOffset val="100"/>
        <c:noMultiLvlLbl val="0"/>
      </c:catAx>
      <c:valAx>
        <c:axId val="35625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3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E86-81B0-47D7-8227-8A7C5C7A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89A-0770-4CED-9E74-74BEA5D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5CF-5399-4716-8915-15535D22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061-F54E-49BE-82D3-D4F7FDC5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401-2DFB-4AC0-AFD5-B047A71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B1B-EB0F-4A61-A93C-87CD2F6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A8D-4F03-4758-AAB8-E83F1365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14F-0B9B-4124-923A-31CF70D0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3D4-3819-463F-8332-C250E4B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871-53CC-46F1-9563-42180E8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D7A-5DE7-47A6-9BA4-B3B0C75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073-9F79-48E2-B0FC-C3C4D62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611B-CD21-4D85-B7C6-2E986B5EA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