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E9F1-82B6-4304-94F5-FD2329C4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F10B-0BE3-449E-8233-1C1779E3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290F-B81E-4537-8471-8138D88C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D918-F1A7-4590-BAB6-50685EB4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D9AE-6743-4D8E-A779-148091C3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A214-48C8-4834-91B6-1D95150D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1A46-6FDF-4102-93CE-5307DA0B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17B2-B6C0-4939-93A5-B205B841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DD26-58FA-44A9-A687-2EA2761C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E709-2987-438E-B53B-EE314B1B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6EE2-7D4F-4391-BE94-A20C8E61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5A01-414D-4E8A-A7E1-3566CCAD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8F35-713F-4BB7-8FE2-C1E26FA3724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4E60-4DD9-4FD1-85B2-07E329559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DD5E-8977-4D1E-AF11-685BAE0FE1B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205C9-7B2A-479C-9F32-E5BE8D5A1B0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80AA-D72A-4793-B6D1-9134BC4FF05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A4442-8D23-4590-B080-D2AFD4E4BFD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9599-AF11-4072-9D15-73680DA119D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E21B1-7324-415E-B223-67D620834F4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of scheduling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187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4"/>
            <a:endCxn id="185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85" idx="4"/>
            <a:endCxn id="175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83" idx="1"/>
            <a:endCxn id="176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84" idx="3"/>
            <a:endCxn id="182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96" idx="1"/>
            <a:endCxn id="192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7" idx="3"/>
            <a:endCxn id="198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E0A8-119B-480F-814E-7A63A2F6755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68A26-C7B9-4FC5-9CA7-A156524CD11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7" idx="2"/>
            <a:endCxn id="252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D6C7-82E4-42C8-AD2E-210798AD1EC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D95D6-0209-47BF-B653-52B23B6F304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8" idx="1"/>
            <a:endCxn id="276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6" idx="7"/>
            <a:endCxn id="277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" name=""/>
          <p:cNvCxnSpPr>
            <a:stCxn id="278" idx="6"/>
            <a:endCxn id="277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sort of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3B58-4124-4245-B78D-0B3079D87B6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76276-AA63-46E6-B570-ED1EF6DB150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s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1738-620F-40EC-AE26-23DA4721290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4BA2D-0272-4439-BD86-3CA46C169E7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23600" y="2212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k c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22880" y="2651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n b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33320" y="21938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 wh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300" idx="2"/>
            <a:endCxn id="304" idx="7"/>
          </p:cNvCxnSpPr>
          <p:nvPr/>
        </p:nvCxnSpPr>
        <p:spPr>
          <a:xfrm rot="5400000">
            <a:off x="5163480" y="3412800"/>
            <a:ext cx="1119960" cy="51048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300" idx="2"/>
            <a:endCxn id="305" idx="0"/>
          </p:cNvCxnSpPr>
          <p:nvPr/>
        </p:nvCxnSpPr>
        <p:spPr>
          <a:xfrm flipH="1" rot="16200000">
            <a:off x="5529240" y="3557160"/>
            <a:ext cx="1083240" cy="185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"/>
          <p:cNvCxnSpPr>
            <a:stCxn id="300" idx="2"/>
            <a:endCxn id="306" idx="0"/>
          </p:cNvCxnSpPr>
          <p:nvPr/>
        </p:nvCxnSpPr>
        <p:spPr>
          <a:xfrm flipH="1" rot="16200000">
            <a:off x="5899680" y="3186000"/>
            <a:ext cx="1083240" cy="927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0" idx="2"/>
            <a:endCxn id="313" idx="0"/>
          </p:cNvCxnSpPr>
          <p:nvPr/>
        </p:nvCxnSpPr>
        <p:spPr>
          <a:xfrm flipH="1" rot="16200000">
            <a:off x="6309360" y="2776320"/>
            <a:ext cx="1083240" cy="1747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" name=""/>
          <p:cNvCxnSpPr>
            <a:stCxn id="302" idx="2"/>
            <a:endCxn id="308" idx="0"/>
          </p:cNvCxnSpPr>
          <p:nvPr/>
        </p:nvCxnSpPr>
        <p:spPr>
          <a:xfrm rot="5400000">
            <a:off x="7480800" y="2932920"/>
            <a:ext cx="682920" cy="119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3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62400" y="2647800"/>
            <a:ext cx="171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E20-9036-436D-8ED8-5858BCFFB5A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98CEB-F675-4319-9738-83354B789E5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4" idx="2"/>
            <a:endCxn id="329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7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359-F8FC-40A5-BC60-9246CA5B39C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0E7D9-05D8-4C98-8C9E-CF3BC2092DB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ropped using a notion of 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extension of same principle can also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06B9-DF7D-4696-A1DD-5195D12B51B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63F25-6223-446C-96A6-A441D043445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C339-6E61-4F5A-A793-2BFB7FAE91A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C89E8-7B84-48FE-B823-01697E9B9E51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9262-2083-4E32-A862-F714A80172F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D750A-EBDF-47D3-8D2A-8F9D7B4B1F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probe map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0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260F-24B5-4630-A4DA-4F30D37FB2A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3EBAC-DA22-4DD2-86D1-F6DEF3A620D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2" idx="1"/>
            <a:endCxn id="385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7" name=""/>
          <p:cNvCxnSpPr>
            <a:stCxn id="393" idx="3"/>
            <a:endCxn id="384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>
            <a:stCxn id="394" idx="1"/>
            <a:endCxn id="382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9" idx="2"/>
            <a:endCxn id="383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47D1-A1DC-4B8A-91CB-73C510421EA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69839-62FD-4D37-8787-E11196C3D11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04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EF8E-F862-4F1F-B6D8-7D251D43B52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9A40E-E6C6-4098-886C-6C18628D88B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3"/>
            <a:endCxn id="413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8" name=""/>
          <p:cNvCxnSpPr>
            <a:stCxn id="424" idx="1"/>
            <a:endCxn id="410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25" idx="2"/>
            <a:endCxn id="416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0" name=""/>
          <p:cNvCxnSpPr>
            <a:stCxn id="426" idx="2"/>
            <a:endCxn id="414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1" name=""/>
          <p:cNvCxnSpPr>
            <a:stCxn id="422" idx="0"/>
            <a:endCxn id="411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2" name=""/>
          <p:cNvCxnSpPr>
            <a:stCxn id="421" idx="0"/>
            <a:endCxn id="409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33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3" idx="0"/>
            <a:endCxn id="420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A53A-96E8-4652-AB4B-8350D7198ED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5E838-9576-4562-A677-C128B61BA30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Rhapsody 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reator and destructor functions as in C++, nor overloading of functions or multiple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17CB-CCCE-489A-BE74-473A3270C56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0025D-BDB6-4F40-B319-25752E22743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3" idx="4"/>
            <a:endCxn id="445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3" idx="4"/>
            <a:endCxn id="444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8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endCxn id="439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2" name=""/>
          <p:cNvCxnSpPr>
            <a:endCxn id="438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43" idx="0"/>
            <a:endCxn id="440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"/>
          <p:cNvCxnSpPr>
            <a:stCxn id="445" idx="2"/>
            <a:endCxn id="441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8" idx="1"/>
            <a:endCxn id="449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7" idx="1"/>
            <a:endCxn id="449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888A-00D5-44BC-8171-2727569CC20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51A71-C725-424D-BB60-855C4D371C2D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@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ations of instance variables 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essage: (type) 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2720" y="1981080"/>
            <a:ext cx="404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E17B-38F2-4E0F-85E9-111049A771D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6413C-EFCC-4C61-855A-105D167884BC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 (type) 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E057-D4B6-48A9-9B6C-9A9B525E5FD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8F6CB-0C02-4D3F-8B14-7DD9F1263E3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3D68-6E02-4114-8C4E-8502F3EB5E4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9B5AC0-E3AC-4C41-9FEA-164862F9AF7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B0D7-8EF1-400B-94E6-D0C5CD06EF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F1158-39C5-4DDA-9580-3CF6B56837A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var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vartype) ar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1679-3470-4D25-95AF-102C5456CB3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E5C28-F3F2-4619-BA14-ECC857695D36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var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vartype) ar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 etc. 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returning no value must retur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7DEE-0800-4A5C-9781-2B57D429ECA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607B1-6383-4802-AA39-F5807443346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 name: (type) arg1 argName2: (type) arg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arg1,(type) arg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24F1-3453-4CDE-8108-7FFB9555F0A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3D569-EEFD-48EC-A6C8-FB6A1FE154BE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 of C vs.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01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rand_move(int i) {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mp_lo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mp_loc=get_rand_loc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while(val[tmp_loc]!=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[location[i]]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[tmp_loc]=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8560" y="1981080"/>
            <a:ext cx="3905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rand_move: p {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lo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c=[self getRandLoc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while([world at: loc]!=ni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 moveTo: loc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30D2-937B-4275-A9F7-A9BCA67B416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37B55-7F29-4717-9E53-33A497489D4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67B7-DFCB-493B-9213-F8303D4AD34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7C32D-876A-4AA7-9939-85CA4A062768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EDF2-092E-4FF3-BA94-2E695154CA0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8AFAB-51B0-4E72-B9F4-EF8782DAB1D3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ed in 1994 by Chris Langton at Santa Fe Institute in New Mexico (Contributors: Chris Langton, Roger Burkhart, Nelson Minar, Manor Askenazi, Glen Ropella, Sven Thommesen, Marcus Daniels, Alex Lancaster, Irene L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create a common simulation platform for A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sed in beta in 1995, 1.0 release in January 1997, 1.1 with Win95/NT support : April 199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: Windows 95/NT version, (Rhapsody?), other GUI implementations, client-server approach, paralel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E4B1-F7F8-4364-B640-99A9651C7F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21A0A0-A154-487E-91C5-A36ABCAC49E7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/Tcl: Scripting language and GUI widgets. GUI is now independent of this implementation and may be substituted by other widget sets in near fu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X-Windows/Unix and Windows 95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1972-82B8-4DC8-948E-2ECCAFA197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075B1-C2C2-47FE-B132-0ADEC8785350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endCxn id="53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8666-1FB2-496C-81AC-2E2B1C21CF4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A4E09-8C66-4682-B045-0F3E3E3F2DC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5160" y="2550960"/>
            <a:ext cx="2689200" cy="268920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93440" y="3198960"/>
            <a:ext cx="135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40520" y="42688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11600" y="36892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9800" y="549108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163520" y="3879360"/>
            <a:ext cx="243540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727E-B6DA-4FD6-A1D6-445A3EDFA2A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CBDF5-A49D-4B05-8521-D648EB83F3A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E70A-E404-48B7-AFE9-876CBE6A452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EE3A4-71B6-48D7-9498-DD6B7D0FFFC4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’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17" idx="4"/>
            <a:endCxn id="126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17" idx="4"/>
            <a:endCxn id="125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5280" y="2521080"/>
            <a:ext cx="83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243-22FF-41B3-9D6D-5FF5F229AB5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603C8-E191-462A-8ADA-99FC5EB053E5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Benedikt Stefansson</cp:lastModifiedBy>
  <dcterms:modified xsi:type="dcterms:W3CDTF">1998-03-19T09:05:11Z</dcterms:modified>
  <cp:revision>24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