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65522"/>
        <c:axId val="79085650"/>
      </c:barChart>
      <c:catAx>
        <c:axId val="19865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85650"/>
        <c:crosses val="autoZero"/>
        <c:auto val="1"/>
        <c:lblAlgn val="ctr"/>
        <c:lblOffset val="100"/>
        <c:noMultiLvlLbl val="0"/>
      </c:catAx>
      <c:valAx>
        <c:axId val="79085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65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93A-5873-415B-ADED-7FEC83CA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2E9-EC14-4234-907C-D13E8320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E80-692D-4184-BB1E-EFF04536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C05-FC35-490B-B706-416EA07D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EBA-7A7A-4B76-8BC5-898480A1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BE9-286A-469D-8E62-135F6BB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9ED-A7FA-4CF8-8701-7C9BC7C6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F5D-71CD-4F1A-8A45-40675803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DB9-2A3F-4944-91AA-816B2903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BBA-55CC-4802-B348-805C222B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93A-8EEE-46B4-AF31-C3A3F49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75A-A2AC-42AC-82A5-B52CADF0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F5F4D-5A7D-4122-82ED-9647102D33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