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247780"/>
        <c:axId val="98121508"/>
      </c:barChart>
      <c:catAx>
        <c:axId val="782477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21508"/>
        <c:crosses val="autoZero"/>
        <c:auto val="1"/>
        <c:lblAlgn val="ctr"/>
        <c:lblOffset val="100"/>
        <c:noMultiLvlLbl val="0"/>
      </c:catAx>
      <c:valAx>
        <c:axId val="981215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477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4465-AB6F-4B8B-922F-5D9820AE8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4FAA-CD44-49FE-B577-DDD434EC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3A98-0076-4379-9685-9605F7A5C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94E8-5526-423C-B7E6-88C58345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8AC6-2604-4E43-8B41-A4D2634E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E4B0-32A7-4EDE-82A8-E988FF9C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8DDF-B945-458B-95E0-CFF04764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A149-D838-4654-A079-EA064590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4C21-8351-4D43-B97D-B31A5D35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DBB1-2B66-49EB-8BD6-B2885F2D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BE90-85F0-4262-B4DB-EDD1DCEC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7BEF-3284-463B-91C6-31D7880F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1F996-7F8A-4A0B-AF8B-0C67EF5E91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