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05287"/>
        <c:axId val="90719161"/>
      </c:barChart>
      <c:catAx>
        <c:axId val="86405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9161"/>
        <c:crosses val="autoZero"/>
        <c:auto val="1"/>
        <c:lblAlgn val="ctr"/>
        <c:lblOffset val="100"/>
        <c:noMultiLvlLbl val="0"/>
      </c:catAx>
      <c:valAx>
        <c:axId val="90719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05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B03-50BB-412E-AD7A-96FAA632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8F5-8A12-40F0-B08F-C6387E32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A87-4790-4708-8C88-0326CE68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C97-97E7-4FBB-A9C1-B0A2BAB9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5B9-6A40-4795-8521-99B30046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D59-FEDE-4833-B441-8639432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495-327E-43D2-9CD1-05E481E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156-34E5-4F89-861D-CC1DC197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F94-D917-4AF9-9052-3175CE0B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583-96E6-48AD-80CF-4EC04437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0F7-8265-4179-A014-3A06918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E4F-39EF-4FC4-A084-545E2E6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5BC98-3CF5-444D-A55E-FB10BB12D1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