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55164"/>
        <c:axId val="84327444"/>
      </c:barChart>
      <c:catAx>
        <c:axId val="97155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7444"/>
        <c:crosses val="autoZero"/>
        <c:auto val="1"/>
        <c:lblAlgn val="ctr"/>
        <c:lblOffset val="100"/>
        <c:noMultiLvlLbl val="0"/>
      </c:catAx>
      <c:valAx>
        <c:axId val="84327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55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936-DA25-47CF-A170-7AE11F64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650-1E3E-41CC-851B-81F39BF9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011-44FD-4276-B516-BD26DB64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51B-2C90-40B0-9204-94B461A5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A16-06BB-4E86-9859-B14972B2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5F9-E278-480B-BF27-88C2E14B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6F0-15D5-45A0-9B04-443471C3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F61-4F37-4324-84D0-F5E04C11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649-39D1-4BBA-8DE1-76DB72A2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35C-B7E7-4E1D-83BD-E7C25724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F2F-52BC-4B01-8975-604627A4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F82-6D87-40BF-B7C7-60E6D4B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63D68-A0AB-46A4-84CD-ECFBDEED3A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