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56880"/>
        <c:axId val="28283311"/>
      </c:barChart>
      <c:catAx>
        <c:axId val="14856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3311"/>
        <c:crosses val="autoZero"/>
        <c:auto val="1"/>
        <c:lblAlgn val="ctr"/>
        <c:lblOffset val="100"/>
        <c:noMultiLvlLbl val="0"/>
      </c:catAx>
      <c:valAx>
        <c:axId val="28283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6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BAE-6CBB-4FD6-B448-BCA1F528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967-AA56-44C3-8352-B046508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184-BB05-4E05-B5F9-771B9809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255-BE6D-4246-A94E-2A023091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D86-3144-4AEC-AF4B-D4E6A9DF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303-5033-401D-AF42-73FAAC7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7E5-5928-4864-96D3-2877C54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85F-787C-4055-B0DC-3DCFE4C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D6-1245-4D1F-ACD1-944A1DCA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280-3F08-4747-8353-4A6C315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5DE-5769-4A42-A178-4E59D64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1AD-DE1D-4191-B824-66E8131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B4552-1F33-4768-A8FB-08925C9F8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