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50991"/>
        <c:axId val="47263197"/>
      </c:barChart>
      <c:catAx>
        <c:axId val="76450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63197"/>
        <c:crosses val="autoZero"/>
        <c:auto val="1"/>
        <c:lblAlgn val="ctr"/>
        <c:lblOffset val="100"/>
        <c:noMultiLvlLbl val="0"/>
      </c:catAx>
      <c:valAx>
        <c:axId val="47263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50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9CE-B526-4912-BF6C-2E081225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0FE-4F6C-4F9A-9F7D-4459E292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F93-8938-4FF3-9D17-5403CBBD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724-97AE-4A8B-A5B0-7084B9E3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A32-E241-410C-BBCA-7EC682BB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C62-8F34-454F-A7A9-28F76474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12B-A632-4BB0-B745-4C98F74F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BAF-9258-43CA-903A-02641D96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701-36B0-4C73-931E-505742A2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41F-A50D-4A8D-83EF-A9BED846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27F-E6D7-4F76-B338-E5F93CCF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F53-C365-44EC-ABF4-1499D012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0005E-AA49-4390-9045-F9291DF102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