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89735"/>
        <c:axId val="27993997"/>
      </c:barChart>
      <c:catAx>
        <c:axId val="860897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993997"/>
        <c:crosses val="autoZero"/>
        <c:auto val="1"/>
        <c:lblAlgn val="ctr"/>
        <c:lblOffset val="100"/>
        <c:noMultiLvlLbl val="0"/>
      </c:catAx>
      <c:valAx>
        <c:axId val="27993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897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7A3B-B99D-4594-A85C-DBF0CD7F0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D04-8097-44AB-B42E-FB976A24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85C-D7A0-4343-83A5-78A4BF64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F3DA-1DAA-4905-A99B-2EF87804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2F7D-DA2D-4620-87AD-04D6A7CC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B845-8E8D-40D9-810C-371FD66C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38BE-781E-423B-BF5D-89F38CCA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1D7-D6F7-4221-A345-DB58C3B6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D630-DE8B-4005-905F-E8CD5A64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6A4-3332-4A9C-BCDB-8504CEA9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5F5B-D954-4F06-A5AA-9F6F9FA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8F6D-90E0-46CE-8B3E-F9D4F5D8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D9B63-02AF-4012-8AB7-5CFD70512C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